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7329-71EE-44F9-9AF5-5A61B7E23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968F-4E15-439A-8046-D9A5432B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44E0-6307-4C90-9BF3-9C0B2F50C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F04D-616C-44FC-8A79-8972434D9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2CA3-BAFD-4F04-AE96-BF9B388C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A578-FBF3-4F4F-B72D-9D8B1EF8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87FB-CEE0-4268-8593-A23EFB28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F422-5ACF-4DD5-819E-90E35B9F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029F-C2CC-414E-868C-CF512F19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5FAC-7A39-42B1-B7AE-E8D2166D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9047-04C2-4C3D-9DC2-8D638EFC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837B-AE4D-455D-A245-E54A8FAC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BF82-2B27-46E2-AEE5-87F442B99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onelyplanet.com/destinationRedirector?openMap=true&amp;ethylCobjId=992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pital 9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Anna Pasaj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schlage vor, das wir nach Berlin gehen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rg_hi" descr=""/>
          <p:cNvPicPr/>
          <p:nvPr/>
        </p:nvPicPr>
        <p:blipFill>
          <a:blip r:embed="rId1"/>
          <a:stretch/>
        </p:blipFill>
        <p:spPr>
          <a:xfrm>
            <a:off x="3200400" y="2057400"/>
            <a:ext cx="27543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Bus ti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gehen mit dem bus von die flughafen zu das hot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86200" y="28954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s flugzeug ticket, round trip, $9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391520" cy="4976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1143000" y="-609480"/>
            <a:ext cx="4114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of Deutschlan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Map of German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2800" y="1639800"/>
            <a:ext cx="5918400" cy="4444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105520" y="1295280"/>
            <a:ext cx="101412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rlin, Germ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h gehen durch der Brandenburg ga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h gehen in die University of Berl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h gehen zur die Berlin W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h gehen auf die Olympic Stad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h gehen zu Das Bundesta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rg_hi" descr=""/>
          <p:cNvPicPr/>
          <p:nvPr/>
        </p:nvPicPr>
        <p:blipFill>
          <a:blip r:embed="rId1"/>
          <a:stretch/>
        </p:blipFill>
        <p:spPr>
          <a:xfrm>
            <a:off x="5029200" y="3581280"/>
            <a:ext cx="3429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Ho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175248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1828800"/>
            <a:ext cx="335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114800" y="1523880"/>
            <a:ext cx="4648320" cy="4800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04920" y="152388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600200"/>
            <a:ext cx="35812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h schlafe im Best Western Premier Hotel Mo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 ist $106 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eine nac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ist: $74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 Hotel hat die sau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 Hotel hat das Hallenb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 Hotel hat meeting roo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s Flugzeug = $9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s Hotel= $7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Bus= $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d Total =$17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7:11:29Z</dcterms:created>
  <dc:creator>CUSD220</dc:creator>
  <dc:description/>
  <dc:language>en-US</dc:language>
  <cp:lastModifiedBy>CUSD220</cp:lastModifiedBy>
  <dcterms:modified xsi:type="dcterms:W3CDTF">2012-01-09T12:53:07Z</dcterms:modified>
  <cp:revision>7</cp:revision>
  <dc:subject/>
  <dc:title>Kapital 9 project</dc:title>
</cp:coreProperties>
</file>